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8FF-C82C-4582-9F49-2F90E3AE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9C1-3010-43C6-81DE-F5436D73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9DA-D4F0-43EF-B23A-966FEF3E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268-1804-410C-ABBC-1AE929A6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626-B830-4029-95B5-C3BEF555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F66-250B-4172-A540-92B19838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CF5-BE56-4108-BBFB-77A3499B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1CC-A265-436B-9FCC-5859287A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2DD-00EF-4280-BE5C-06BA3EC2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BB4-F1EE-4760-A26B-007811CE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A8D-05A2-4CEB-AC97-7A8D422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C5C-A025-4F94-82C6-D0BE487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AED-BCBA-4FF4-82C9-9727420A6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1 Je žriedlom vody v pú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žriedlom vody v pú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účom temných d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útechou pre smutn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avdou v svete lž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iesňou, je ja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krásou letných 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všetkým je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riateľ a môj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ierom napriek boj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krídla miesto pú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návratom do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rúcnym stiskom rú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hviezdou svietiac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dozernú plá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všetkým je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riateľ a môj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liečivou je hud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iesňou nádher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dažďom smädnej pô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dúhou fareb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cestou vedúc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äť do domova b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všetkým je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riateľ a môj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26:52Z</dcterms:modified>
  <cp:revision>20</cp:revision>
  <dc:subject/>
  <dc:title>Je veľký náš Pán, on slávy je Kráľ Nech do všetkých strán  spev vrúcnych znie chvál.</dc:title>
</cp:coreProperties>
</file>